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27.png" ContentType="image/png"/>
  <Override PartName="/ppt/media/image11.jpeg" ContentType="image/jpeg"/>
  <Override PartName="/ppt/media/image23.wmf" ContentType="image/x-wmf"/>
  <Override PartName="/ppt/media/image9.wmf" ContentType="image/x-wmf"/>
  <Override PartName="/ppt/media/image8.wmf" ContentType="image/x-wmf"/>
  <Override PartName="/ppt/media/image7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13.jpeg" ContentType="image/jpeg"/>
  <Override PartName="/ppt/media/image3.wmf" ContentType="image/x-wmf"/>
  <Override PartName="/ppt/media/image26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29.png" ContentType="image/png"/>
  <Override PartName="/ppt/media/image14.wmf" ContentType="image/x-wmf"/>
  <Override PartName="/ppt/media/image1.png" ContentType="image/png"/>
  <Override PartName="/ppt/media/image24.png" ContentType="image/png"/>
  <Override PartName="/ppt/media/image2.jpeg" ContentType="image/jpeg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5481-3262-42CC-9A29-646627B8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E510-E47E-45A0-B840-A31A426E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E6C4-2A4A-469F-98E9-C8A24C12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1BA-6D4B-4033-91E1-E070A8D20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DC3A-8DF6-468F-9158-3CB94A27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78BD-BD81-4D05-A523-006820B5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9508-CE30-4E76-91F6-34B1310D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C3A8-288A-4139-9C0D-8671D597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5B72-7A14-410A-ACBB-8A2A4A76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7195-E775-40A2-B8C0-582DCEB8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D3CD-772B-4ABF-9882-025ACADA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21CD-68EE-4364-9E75-83CC3837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D841-80BA-48B9-A410-6B35EEEA0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What affect does gender have on seeing the differences between two pictures? </a:t>
            </a:r>
            <a:endParaRPr b="0" lang="en-US" sz="40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By: Jessica Ric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1538280" cy="1743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19920" y="4648320"/>
            <a:ext cx="2514600" cy="1434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" y="4267080"/>
            <a:ext cx="213372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irl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(min./s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oy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(min./sec.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ly-1:41                Tristin P.- 1:1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ma- 2:32             Tristen V.- 1:0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lby S.- 1:21        Zane- 1:0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lbi F.- 1:51         Brayden- 2:1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rin- 1:29                 Erik- 2:5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971800" y="4648320"/>
            <a:ext cx="15937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was really no difference between the boys and girls. Most of the boys were faster than the girls. Although some of the guys had slower times overa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19520" y="4495680"/>
            <a:ext cx="26002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Major Observations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 of the guys had faster times. When comparing the times between each gender there was really no differ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105520" y="3352680"/>
            <a:ext cx="1979640" cy="3121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37339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Possible Causes of Error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told them that the corners of the sun didn’t count, and some of them didn’t get what I was saying so they took along time trying to find the last differenc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was some distractions when taking the test so that costed some tim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05320" y="4724280"/>
            <a:ext cx="1827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Further Research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tween the boys and girls their brains aren’t different at all. The only difference really is the fact that boys’ brains develop slower than girls’ brai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2467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Time Spent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 this project I spent approximately 10 hours overall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4120" y="2971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219320" y="3886200"/>
            <a:ext cx="25905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nks for all of the people who were in my experiment!!! It helped me a lot for my experimen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pecial Thanks to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ly, Emma, Shelby S., Shelbi F, Erin, Tristin P., Tristen V., Zane, Brayden, and Er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24852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"Boys' And Girls' Brains Are Different: Gender Differences In Language Appear Biological."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cience Daily: News &amp; Articles in Science, Health, Environment &amp; Technolog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N.p., n.d. Web. 19 Jan. 2012. &lt;http://www.sciencedaily.com/releases/2008/03/080303120346&gt;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"All About Eyes."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KidsHeal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N.p., n.d. Web. 19 Jan. 2012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kidshealth.org/parent/general/body_basics/eyes.html&gt;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" NASSPE: Research &gt; Brain Differences ."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NASSPE: Home &gt;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ntroductio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N.p., n.d. Web. 17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n. 2012. &lt;http://www.singlesexschools.org/research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ain.htm&gt;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gender have an affect on how fast people can see the difference between two pictur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3581280"/>
            <a:ext cx="1914480" cy="2390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5880" y="3048120"/>
            <a:ext cx="182736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you ever looked at the can-you-find-the-difference pictures in the newspaper? Have you ever wondered if the fact that gender makes a difference on how fast you can find the differences? Well I am trying to find if there is a differ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62720" y="4724280"/>
            <a:ext cx="145728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pictures that are the same but have differences that you have to fi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 Girls &amp; 5 Boy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n or Penc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aper to keep track of tim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4120" y="26668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3880" y="4952880"/>
            <a:ext cx="1522440" cy="1676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19920" y="4952880"/>
            <a:ext cx="1519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irl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oy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ly                    Tristin 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ma L.                Tristen V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lby S.                  Zane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lbi F.                Brayd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ci W.                  Erik V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657600" y="5105520"/>
            <a:ext cx="192420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Background Info.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really no difference between boys and girls brains. The only difference would be how fast they produc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rls have different ways that they’re brains work. They have a very good ability to be able to understand language related things than guys d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eyes and our brain work together to be able to see things, and see other things like, size, shape, texture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391520" y="380880"/>
            <a:ext cx="142848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467480" y="4952880"/>
            <a:ext cx="1447920" cy="1160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6765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think that the girls will be able to find all of the differences faster. Girls usually tend to be able to find things faster when looking for someth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00200" y="3733920"/>
            <a:ext cx="1141560" cy="2454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rst I will take each person by themselves and I won’t show them the pictures until I start to time them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n I will time them and finish once they have found all of the differen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xt I will look at the times between the boys and girls, and I will be able to see who found all of the differences and compare their tim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747800" cy="1542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dependent- Pict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pendent- Comparing boys and gir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rolled- Pict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2327040" cy="2471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781680" y="22860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638680" y="3581280"/>
            <a:ext cx="22035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7:32:37Z</dcterms:created>
  <dc:creator>USD376</dc:creator>
  <dc:description/>
  <dc:language>en-US</dc:language>
  <cp:lastModifiedBy>USD376</cp:lastModifiedBy>
  <dcterms:modified xsi:type="dcterms:W3CDTF">2012-03-09T15:34:21Z</dcterms:modified>
  <cp:revision>11</cp:revision>
  <dc:subject/>
  <dc:title>What affect does gender have on seeing the differences between two pictures? </dc:title>
</cp:coreProperties>
</file>